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98BC-3037-4275-87CD-B0D0A700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4EA-2E48-4502-8E96-C88C82AC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FA2-148C-4D4E-BFDB-F7F81D7F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3D1-E558-4971-AD08-45CF81F5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97234-89DC-4BED-902D-065F08AB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56E9D-0936-4E4A-881B-3F03F4F1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DA5E61-26DC-472B-B12B-2B5D8C36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26C42-AD9A-494E-A1A5-D0FBF976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6174A-4382-46EC-89A7-931A62B1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BE52C-F3BE-45F5-B419-6139BFA5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D6E95-0983-4E76-AF02-7CFFC225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D8C-9726-42FF-891A-1EE83EBB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61270-CE97-4AB5-BAAF-78034482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E32FD-1A2B-4377-97E8-7711D021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943C6-DFDD-4730-8732-EDA7E7D3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CB9EC-DDA7-4F4F-AD27-BC9052FF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18FF0-3727-4BDE-846F-755F09EC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B11-6FEE-4154-A3A5-C997824B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FD0-EEA7-4DC5-86B5-26B3A7FE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B23-36AD-4718-B5C4-B185E3ED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E7AF-1BDE-4D8A-A11B-6E57225D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EF47-0D1A-4A31-A703-31ED6DF2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2E4-5C61-4B09-A5E7-D4F226EA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4221-396A-467F-82C2-D7B3128D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45AA-10A3-4A98-860D-3968E353B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21D6-BEEC-4886-856B-FC3BC9885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lar Be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ara Zah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400800" y="312408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o you think Polar Bears are cool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19440" y="2585880"/>
            <a:ext cx="240048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live in the Arctic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have fur to keep them wa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505320" y="3352680"/>
            <a:ext cx="18399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love to eat fish and se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go in the water for fo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352680" y="4419720"/>
            <a:ext cx="25146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ir babies are called cub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’re the largest bears in the 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86000" y="3124080"/>
            <a:ext cx="36576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y have big paw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cubs could grow to the size of a per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819520" y="3124080"/>
            <a:ext cx="255744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 hope you like learning about Polar Bears.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095640" y="1693800"/>
            <a:ext cx="2952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9:22:14Z</dcterms:modified>
  <cp:revision>4</cp:revision>
  <dc:subject/>
  <dc:title>Animal Name</dc:title>
</cp:coreProperties>
</file>